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C3E6-166B-4CBC-AF5E-BCC31F0C2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C06F-5FEF-480B-8EA8-39F6F053F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9B33-AA0E-4EFE-8F40-2548F4287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5E10-6762-41DF-99F6-364E6F109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F328-BE57-4640-8CE1-97CFD5B42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D39C-1066-4D95-91BC-159CF7570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4FD9-4D28-4A57-A31B-386C44E7A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844E-47AB-4B6B-9350-13BC8A57A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5A04-B958-4907-933E-3E58F97CA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2A3F-13DC-4B86-A0D3-E31A1E000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7B2E-4860-49E6-B52A-2F057FDA0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B5F1-9038-48B4-A995-AB1FC0CDC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4E0-E24D-4963-BF6B-36F301CAD0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B313-32EC-47FA-9544-12D17817A5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38F3-4382-4739-9915-1AECC63DA5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C40D-3E17-40E9-A3A0-8DB2640DD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9000" y="259092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84C3-BAE4-44BA-9765-DDF47B44E0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76720" y="213372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t. Mary’s SS (PVNCCDS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29000" y="259092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192-8C9C-4964-A2A9-FF80F20D58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7CD-B177-42D2-BB99-928015986C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feedback to be used when responding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0D4-FED0-4DCE-8F5B-C3FF4A9D91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3E8D-DA2A-4491-9C1F-8D870F7DBC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5E2E-2E8D-4007-8B90-8E1AB5A384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C822-0D32-45A5-AE33-E0F87E735F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3DEF-7168-4136-AF00-BA78BF73F0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867D-D1CF-417E-8D4D-27AA1B2879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D2C-E4B8-4D2C-8CC8-A115719FB4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7CA5-C1C7-41E9-A0CA-7A019540E4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2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D53-4C31-4966-9A64-E16FF35ECD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30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0049-2F93-4F71-ACB2-3F5245E23E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6T21:37:06Z</dcterms:modified>
  <cp:revision>28</cp:revision>
  <dc:subject/>
  <dc:title>&lt;Title&gt;</dc:title>
</cp:coreProperties>
</file>